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FC2-258B-4FB2-A6E3-D920DFB0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D3C-BC16-4349-87BC-C6299BEE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5B0-6175-4C73-BE4A-249578BA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A37-F07E-432C-B1BC-5818EA5C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497-E375-4B3A-AABA-2D0A0DC8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70B-9996-415C-A4EB-B1B9D0F7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8E7-0EB7-4F46-A08F-888A590E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EA4-EB85-4B63-9956-44816758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41E-8CD5-4F86-BF0F-BF23FCA9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9F5-86FD-4CE0-A631-67427B7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B17-5F99-48C4-8D87-AEDE606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7F3-45C5-4E6E-ABFB-0F8E5F42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5A48-DFEF-4F5F-AE9C-9C3284857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llel and Perpendicula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2860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32767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Parallel lines have the same slop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534520" cy="80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1752480"/>
            <a:ext cx="1676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437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4505400"/>
            <a:ext cx="6095880" cy="82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0199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119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19810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181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5111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57913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22960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467480" cy="787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1828800"/>
            <a:ext cx="4114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05920" cy="87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25920" y="1371600"/>
            <a:ext cx="5365800" cy="345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33920" y="2560680"/>
            <a:ext cx="53766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153280" cy="64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1600200"/>
            <a:ext cx="1295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equation of the line parallel to 2x + 3y = 12 going through the point (-6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6386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w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Perpendicular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3716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Perpendicular lines have slopes that are negative reciprocal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97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678120" y="1523880"/>
            <a:ext cx="5160960" cy="6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733920" y="2666880"/>
            <a:ext cx="4632120" cy="611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457440" y="3718080"/>
            <a:ext cx="530568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1:14:14Z</dcterms:created>
  <dc:creator>Susannah Graham</dc:creator>
  <dc:description/>
  <dc:language>en-US</dc:language>
  <cp:lastModifiedBy>Susannah Graham</cp:lastModifiedBy>
  <dcterms:modified xsi:type="dcterms:W3CDTF">2009-08-04T21:18:16Z</dcterms:modified>
  <cp:revision>5</cp:revision>
  <dc:subject/>
  <dc:title>Lesson 6.5 Parallel and Perpendicular Lines</dc:title>
</cp:coreProperties>
</file>